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FDF-DF42-4868-8571-87A7E1F0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DBE-D5F4-4821-9EE8-C8774EDA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11A-EBDE-493A-A000-7157441B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003-43FE-4D17-82BA-EC36CB5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5962-ECF4-484C-BEC6-676484D6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5F2D-B427-4FD3-BD3A-54BAB07E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5B0-8839-49F6-9DAC-FCD7B4A6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A973-52D9-4009-A624-E8EE690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661-A2B8-4917-84DD-59F4FAD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C688-F523-4CF6-9872-C6B2A033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3D4-6D3F-419E-B109-4864131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618-791B-493B-8ECC-B1A86C6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6D7-4543-41D8-AC38-930AB17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029-A5A0-4BA9-A2F2-F47C633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7298-745C-43D1-B3CE-248AD3B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2E9A-0D1F-4D9F-9630-3FA53955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5E37-6410-4ED1-926C-A7FD81BC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5D6-064F-4258-A46E-E652359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7AC-C887-4D70-8FD9-9A6C09F2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D73-09AD-4197-BB6A-4A1DA92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159-3FAA-4F00-BC28-A9044DA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9C1-28A2-4BE1-9E9C-E33AFE15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EF1-E035-4DA1-A1CA-080A5A2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F4B-F43B-4903-9059-0D590D7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3A8-15FF-4FD1-B0EF-453DD14B8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DFC-F40F-4C24-8861-FC59E64B6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5 Biogeochemical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 Cas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ydrologic Cycle: Ch 19 in deta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Global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carbo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eous (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Most important organic comp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the nitroge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trogen Cy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most of the atm (about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trogen cycle key steps!!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in atmosphere as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n in the so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itrogen fix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xes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a form plants can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t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 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living th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Plants absorb nitrates and ammonia 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971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soil agai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the atm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ymbiosis - Crop Ro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has no atm st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affect its’ use by l.t.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gaseou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rocks and organic material in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s to microbial action, changed to phosphates  (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which plants can access. (slow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a biogeochemical cyc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aken to cycle va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lements fas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gaseous sl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ologic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ton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continent spreading and converging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 layer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 fault 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fault  = sli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gent = coll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 sp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tosborne</cp:lastModifiedBy>
  <dcterms:modified xsi:type="dcterms:W3CDTF">2010-09-30T14:41:23Z</dcterms:modified>
  <cp:revision>41</cp:revision>
  <dc:subject/>
  <dc:title>Chapter 4 Biogeochemical Cycles</dc:title>
</cp:coreProperties>
</file>